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21F9-4B39-417A-B487-FD1712EFC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376A-7123-4D9E-878B-E81B73CC7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020B-CFC9-4BEE-9F0F-77C809EF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6A51-EEF3-4AF4-A7F4-9EEC38B2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97FF8-5A1C-43EF-8E21-82801D5E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1F94-74AD-45DC-A2D5-83C10B7EC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E891-EDDA-4C5F-807A-62EA28DD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5466-90D6-4201-8BBA-A09B9AAAD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8686-E5E8-4F72-95D0-A66ACFCCA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CDB2-68AA-46EE-B27D-8D379821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F4CE-9115-4437-9BDA-ADB73926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0435-4C46-447C-A674-5BEA1BBE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2FEB4-5200-4788-A95C-034717E0FB5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" Target="slide7.xml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440" y="262080"/>
            <a:ext cx="8207280" cy="1922760"/>
          </a:xfrm>
          <a:prstGeom prst="rect">
            <a:avLst/>
          </a:prstGeom>
          <a:solidFill>
            <a:srgbClr val="2c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华文琥珀"/>
                <a:ea typeface="华文琥珀"/>
              </a:rPr>
              <a:t>Unit 1 My name’s Gina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"/>
          <p:cNvSpPr/>
          <p:nvPr/>
        </p:nvSpPr>
        <p:spPr>
          <a:xfrm>
            <a:off x="684360" y="907920"/>
            <a:ext cx="777528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ass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umber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ame _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glish name ______________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34280" y="83664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734280" y="1719360"/>
            <a:ext cx="47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59080" y="2567160"/>
            <a:ext cx="33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Peng  Si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27240" y="3502080"/>
            <a:ext cx="2318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0000"/>
                </a:solidFill>
                <a:latin typeface="华文隶书"/>
                <a:ea typeface="华文隶书"/>
              </a:rPr>
              <a:t>Cind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590724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"/>
          <p:cNvSpPr/>
          <p:nvPr/>
        </p:nvSpPr>
        <p:spPr>
          <a:xfrm>
            <a:off x="1266840" y="620640"/>
            <a:ext cx="6610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What’s your na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B: My name is </a:t>
            </a:r>
            <a:r>
              <a:rPr b="1" lang="en-US" sz="4800" spc="-1" strike="noStrike" u="sng">
                <a:solidFill>
                  <a:srgbClr val="ff0000"/>
                </a:solidFill>
                <a:uFillTx/>
                <a:latin typeface="Arial"/>
              </a:rPr>
              <a:t>Gina</a:t>
            </a: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Nice to meet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cc"/>
                </a:solidFill>
                <a:latin typeface="Arial"/>
              </a:rPr>
              <a:t>B: Nice to meet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60440" y="3789360"/>
            <a:ext cx="5039280" cy="2745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your nam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你的名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</a:rPr>
              <a:t>my name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我的名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华文新魏"/>
              </a:rPr>
              <a:t>Nice to meet you!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很高兴认识你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590724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"/>
          <p:cNvSpPr/>
          <p:nvPr/>
        </p:nvSpPr>
        <p:spPr>
          <a:xfrm>
            <a:off x="1266120" y="620640"/>
            <a:ext cx="6238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: What’s her name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B: Her name is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Gina</a:t>
            </a:r>
            <a:r>
              <a:rPr b="1" lang="en-US" sz="48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68640" y="2637000"/>
            <a:ext cx="5677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: What’s his nam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B: His name is 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Alan</a:t>
            </a:r>
            <a:r>
              <a:rPr b="1" lang="en-US" sz="4400" spc="-1" strike="noStrike">
                <a:solidFill>
                  <a:srgbClr val="a50021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641240" y="4533840"/>
            <a:ext cx="4389840" cy="143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her name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她的名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Arial"/>
              </a:rPr>
              <a:t>his name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他的名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72360" y="590724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72" name=""/>
          <p:cNvGraphicFramePr/>
          <p:nvPr/>
        </p:nvGraphicFramePr>
        <p:xfrm>
          <a:off x="255600" y="2781360"/>
          <a:ext cx="8637480" cy="1749240"/>
        </p:xfrm>
        <a:graphic>
          <a:graphicData uri="http://schemas.openxmlformats.org/drawingml/2006/table">
            <a:tbl>
              <a:tblPr/>
              <a:tblGrid>
                <a:gridCol w="2160360"/>
                <a:gridCol w="1619280"/>
                <a:gridCol w="1619280"/>
                <a:gridCol w="1619280"/>
                <a:gridCol w="16192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 it, plea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your nam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3" name=""/>
          <p:cNvSpPr/>
          <p:nvPr/>
        </p:nvSpPr>
        <p:spPr>
          <a:xfrm>
            <a:off x="4140360" y="3716280"/>
            <a:ext cx="142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84360" y="371628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640" y="177840"/>
            <a:ext cx="876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 Narrow"/>
              </a:rPr>
              <a:t>Task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</a:rPr>
              <a:t>: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新魏"/>
              </a:rPr>
              <a:t>了解小组成员的名字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新魏"/>
              </a:rPr>
              <a:t>                </a:t>
            </a:r>
            <a:r>
              <a:rPr b="0" lang="zh-CN" sz="4000" spc="-1" strike="noStrike">
                <a:solidFill>
                  <a:srgbClr val="000000"/>
                </a:solidFill>
                <a:latin typeface="Arial Narrow"/>
                <a:ea typeface="华文新魏"/>
              </a:rPr>
              <a:t>你可能会用到以下的对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A: What’s your name?  </a:t>
            </a:r>
            <a:r>
              <a:rPr b="1" lang="zh-CN" sz="4000" spc="-1" strike="noStrike">
                <a:solidFill>
                  <a:srgbClr val="0033cc"/>
                </a:solidFill>
                <a:latin typeface="Arial Narrow"/>
              </a:rPr>
              <a:t>B: My name is G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A: Spell it, please.         </a:t>
            </a:r>
            <a:r>
              <a:rPr b="1" lang="zh-CN" sz="4000" spc="-1" strike="noStrike">
                <a:solidFill>
                  <a:srgbClr val="0033cc"/>
                </a:solidFill>
                <a:latin typeface="Arial Narrow"/>
              </a:rPr>
              <a:t>B: G-I-N-A, Gina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738760" y="371628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i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323120" y="371628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Ji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4724280"/>
            <a:ext cx="85690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然后向全班介绍小组各成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例如：</a:t>
            </a:r>
            <a:r>
              <a:rPr b="1" lang="zh-CN" sz="4000" spc="-1" strike="noStrike">
                <a:solidFill>
                  <a:srgbClr val="660066"/>
                </a:solidFill>
                <a:latin typeface="Arial Narrow"/>
              </a:rPr>
              <a:t>My name is Alan. Her name is Gina. Her name is Alice. His name is Ji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215200" y="6058080"/>
            <a:ext cx="67788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4" name=""/>
          <p:cNvGraphicFramePr/>
          <p:nvPr/>
        </p:nvGraphicFramePr>
        <p:xfrm>
          <a:off x="684360" y="3716280"/>
          <a:ext cx="7986600" cy="2808360"/>
        </p:xfrm>
        <a:graphic>
          <a:graphicData uri="http://schemas.openxmlformats.org/drawingml/2006/table">
            <a:tbl>
              <a:tblPr/>
              <a:tblGrid>
                <a:gridCol w="2087280"/>
                <a:gridCol w="1474920"/>
                <a:gridCol w="1474920"/>
                <a:gridCol w="1474560"/>
                <a:gridCol w="1474920"/>
              </a:tblGrid>
              <a:tr h="56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stion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ell it, please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23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her nam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2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his nam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" name=""/>
          <p:cNvSpPr/>
          <p:nvPr/>
        </p:nvSpPr>
        <p:spPr>
          <a:xfrm>
            <a:off x="4284720" y="450864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Gi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3280" y="5589720"/>
            <a:ext cx="142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A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260280"/>
            <a:ext cx="8964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Task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２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了解小组成员的名字（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English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你可能会听到以下的对话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: What’s your nam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: My name is G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: Spell it, pleas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</a:rPr>
              <a:t>B: G-I-N-A, Gina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91636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2"/>
            <a:stretch/>
          </p:blipFill>
          <p:spPr>
            <a:xfrm>
              <a:off x="2916360" y="0"/>
              <a:ext cx="30240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" descr=""/>
            <p:cNvPicPr/>
            <p:nvPr/>
          </p:nvPicPr>
          <p:blipFill>
            <a:blip r:embed="rId3"/>
            <a:stretch/>
          </p:blipFill>
          <p:spPr>
            <a:xfrm>
              <a:off x="5904000" y="0"/>
              <a:ext cx="32400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"/>
          <p:cNvSpPr/>
          <p:nvPr/>
        </p:nvSpPr>
        <p:spPr>
          <a:xfrm>
            <a:off x="950760" y="447840"/>
            <a:ext cx="7508880" cy="56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作业：</a:t>
            </a:r>
            <a:r>
              <a:rPr b="1" lang="zh-CN" sz="4000" spc="-1" strike="noStrike">
                <a:solidFill>
                  <a:srgbClr val="9900cc"/>
                </a:solidFill>
                <a:latin typeface="Arial"/>
                <a:ea typeface="华文新魏"/>
              </a:rPr>
              <a:t>抄写词组和句子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my nam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your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his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her na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What’s your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My name is Gina 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What’s his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What’s her name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隶书"/>
              </a:rPr>
              <a:t>Nice to meet you 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68360" y="219240"/>
            <a:ext cx="8207280" cy="1008360"/>
          </a:xfrm>
          <a:prstGeom prst="rect">
            <a:avLst/>
          </a:prstGeom>
          <a:solidFill>
            <a:srgbClr val="2c89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ff"/>
                </a:solidFill>
                <a:latin typeface="华文琥珀"/>
                <a:ea typeface="华文琥珀"/>
              </a:rPr>
              <a:t>See you next time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0T13:11:20Z</dcterms:created>
  <dc:creator>yanjun</dc:creator>
  <dc:description/>
  <dc:language>en-US</dc:language>
  <cp:lastModifiedBy>星沙英语网</cp:lastModifiedBy>
  <dcterms:modified xsi:type="dcterms:W3CDTF">2005-04-29T06:57:53Z</dcterms:modified>
  <cp:revision>8</cp:revision>
  <dc:subject/>
  <dc:title>幻灯片 1</dc:title>
</cp:coreProperties>
</file>